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8E81-BF38-4985-97A2-18FB90595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5CCA-09A3-4151-90D7-0900C9DD4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80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2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80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2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5-</a:t>
            </a:r>
            <a:fld id="{29C39783-DFB1-4A7E-BD34-8D29C4D37E9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Costing 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(Peanut Butter)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anut Butter Cost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raditional costing approach which uses broad averages to spread costs among products and services even though the resources are are consumed in a non-uniform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ds to overcosting and undercosting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48 - 1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11480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 cross-subsid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ome products are overcosted, other products are undercos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overcosted products are subsidizing the undercosted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ining a Cos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things to consider to improve an existing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-cost trac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 the amount of indirect costs by classifying more costs as 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-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and the number of indirect-cost pools until the costs in each pool are homogeneo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allocation b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using a different cost-allocation base for each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sed on what causes the cost pool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Costing (AB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finement of an existing cost system which focuses on individual activities as the basic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activity is an event, task, or unit of work with a specified purpo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activities include designing the product or service, set up of machinery, operating machinery, distribution of finished product, administr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191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undamental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191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ions 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Cost Obje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4952880"/>
            <a:ext cx="1752480" cy="131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1600" indent="-201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5562720"/>
            <a:ext cx="6858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5562720"/>
            <a:ext cx="9144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2 - 1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5181480"/>
            <a:ext cx="17524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 of 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181480"/>
            <a:ext cx="1752840" cy="85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Hierarchi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thinking about splitting indirect costs into homogeneous cost pools considering four cost hierarchies or cost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put unit-level costs:  costs relating to individual units of output such as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tch-level costs:  costs relating to batches of output such as set-up char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-sustaining costs:  costs relating to the support of a particular product such as product desig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y-sustaining costs:  costs relating to the organization as a who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5 - 15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versus ABC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6 - 1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346480"/>
            <a:ext cx="25909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direct Costs / DLH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 $2,000,000 / 4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$50 per DL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962520"/>
            <a:ext cx="236196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In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800600"/>
            <a:ext cx="121896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800600"/>
            <a:ext cx="121932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066680" y="4343400"/>
            <a:ext cx="60984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343400"/>
            <a:ext cx="60948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860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869080"/>
            <a:ext cx="228600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33920" y="1295280"/>
            <a:ext cx="5410080" cy="4957920"/>
            <a:chOff x="3733920" y="1295280"/>
            <a:chExt cx="5410080" cy="4957920"/>
          </a:xfrm>
        </p:grpSpPr>
        <p:sp>
          <p:nvSpPr>
            <p:cNvPr id="82" name=""/>
            <p:cNvSpPr/>
            <p:nvPr/>
          </p:nvSpPr>
          <p:spPr>
            <a:xfrm>
              <a:off x="4800600" y="12952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BC Costing System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91120" y="3809880"/>
              <a:ext cx="167616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imp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00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4495680"/>
              <a:ext cx="76212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7816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4100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5884920"/>
              <a:ext cx="2286000" cy="368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Direct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920" y="2057400"/>
              <a:ext cx="2590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DL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500,000 / 4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2.50 per D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00800" y="2057400"/>
              <a:ext cx="2743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M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1,500,000 / 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50 per M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0800" y="3809880"/>
              <a:ext cx="16765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102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714640" y="4495680"/>
              <a:ext cx="68580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of ABC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8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the use of activity-based management (ABM)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M focuses management’s attention on the activities that cause costs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s i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tter product and pric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ing activities more efficient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liminating activities that do not add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ing product 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tually leads to improved operations and processes, satisfied customers, and increased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1 -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-Tale” Signs of Need to Consider AB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ificant amounts of costs are allocated using one or two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 or most of the costs are identified as output unit-lev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s make diverse demands on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show little profit while secondary products show large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lex products appear to be profitable while simple products appear to be losing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s and accounting staff disagree about the costs of manufacturing and marketing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4 -1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ing Interest in Activity-Base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to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cost information for product pric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profit analysi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custom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ces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performance measu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insight into cost caus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urce:  Armitage, H., and R. Nicholson, “Activity-Based Costing: A Survey of Canadian Practices”, supplement to CMA Magazine (1993)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1:59:26Z</dcterms:created>
  <dc:creator>User</dc:creator>
  <dc:description/>
  <dc:language>en-US</dc:language>
  <cp:lastModifiedBy>John Moore</cp:lastModifiedBy>
  <cp:lastPrinted>1999-06-03T12:08:02Z</cp:lastPrinted>
  <dcterms:modified xsi:type="dcterms:W3CDTF">2003-03-22T13:11:26Z</dcterms:modified>
  <cp:revision>9</cp:revision>
  <dc:subject/>
  <dc:title>No Slide Title</dc:title>
</cp:coreProperties>
</file>